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7E35-1D4A-40D0-8947-19485CA46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8A86-7420-4C95-84A2-6D20ED332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433F-F08F-4744-B266-8A1CFED0A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CAF7-4A47-488D-B420-011BBD9C8F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3487-584F-4003-9F31-0CBA7FB4AE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F744-1F9D-4ABD-B0FE-5D98CC1B61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21C7-73AF-47CE-8919-5D0AFBD74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DD4F-0EA8-48A3-9632-72DADBC8AC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D6D9-964D-441C-8FBE-C129FEC344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159-A424-4E86-9E0C-BBADBF89F2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AA71-5655-4AFD-BB46-2B60DA6FDE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96E8-708A-4356-8CD5-C0B5D9E9FD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EE1-E282-4188-992B-7F391B4E4E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D53-772D-4213-A46D-31F6F22635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C152-0151-4DBB-BE4B-18638691C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2764-BE42-4D35-BC1F-1E0131923B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49BA-C8F0-4DA5-BC7B-D055DF2FEC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E160-C9AC-48A0-B68C-6FC29FDE1D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089E-374B-41EE-8142-449F0331C5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7916-CA1B-45E9-B62E-761D482458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F2CC-4393-4F67-B8E0-24E939EF21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7CD-3644-449D-B121-F347E39D8B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B36D-3B86-4A33-B72A-5971E47CA8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7C30-B4D7-444F-92F5-F3B9D4F2EF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FE87-4E33-4049-BD95-12E90DADA5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9B7E-083C-4E47-BD6F-BC69AD336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433B-F4AB-47BA-B951-606333548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8F8D-1F92-422E-8C6A-D6C6B72102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4888-C3B8-4B5C-B212-BB4C0725BD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1913-A32F-465E-8C33-66074BF62D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6993-DC07-4C23-B717-C2D9D6CC64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DB5F-7171-4A2A-A0FE-8E4F05E9D0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56B3-44DE-493D-9727-A885CE25B9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F799-96C3-42C1-B1E9-3E6FC3762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A9DA-F38D-44F8-9695-91CB7FE399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8F4B-3E88-4768-8CBA-BF55700FA1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ABEA-2AFC-44E9-8C16-96451EEE5A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B86F-0E0B-45F7-ADB6-3DB54BFCE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6269-A36F-4AD3-9B9D-9D0C49C739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9C5E-C4A6-4F45-B72C-8FF6360FB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76F3-17B2-495B-B6C4-FD83A19FB9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58C-D877-44D8-A7C2-7330F2EC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E77-10D8-4122-83BC-1C19CB9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D9C9AA-8281-4307-AC19-A72ED866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487DE3-58B1-4849-9560-47D3E70E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BB0B18-B3CB-4B78-80A0-26F2C977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3F71C7-69F4-4A00-AF4E-7E7C5D44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4BF52-B0E4-4252-92D1-D3FD50A5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191523-78C0-4628-B04C-D586D03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ED5312-6D64-49E8-89AB-C5A53612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F11B02-B61A-4D04-B020-1494CA6F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3A2B8-353D-4F7D-89CC-01415957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D98CAA-6C99-4962-8D7A-D0638CFE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D3E-D55E-4841-81B7-A73D44CB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FB1D5E-425C-4BDB-ACA3-EF8C3BA3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2680DF-AF2E-479E-B330-E8F03983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33CDFE-7AE3-4C20-A186-C85AAAC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440A30-0C26-40C7-A2EF-63F36B1D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500C60-B3FC-46C1-9B48-D7753CC6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F8E354-4929-498B-8037-36688F3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4808CF-E6A4-4BEB-A2D2-C6A61AD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54267B-7921-470D-AB11-7A02BD14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818BD4-75F9-415C-9116-AA875A49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01AE07-B3B7-448E-96FF-032E2C8F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EB6-F8BA-4730-A4BE-6AA996A3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69F7E5-D68F-4A51-8501-8D423828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4701-789D-4908-95E8-39AD7730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1492-1C75-40DD-8C08-1B6AD0A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AF6B-BC14-4FE2-AAAA-35B55ACE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7A3B-0707-4392-AEAB-BC82C8FB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96A1-39E4-4142-9783-130487D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7675-E86D-451C-B5A8-AF5CD34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067A-F454-4976-B4F3-FF4BF58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FE1-581B-4AC0-A418-A65F5C73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BCC1-3436-4D0D-99DC-F2A24ACD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C886-4C1F-4C12-8B77-3B48F68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986A-F7E5-4C28-A6E7-E4B6835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39DB-D65F-4A1B-97FB-2AD57D83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913C-1354-4238-A775-209585D2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558C-5471-4B23-BB77-00170EB8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B8A1-EA43-461B-8C89-120E40D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FEF16-7EC7-48A3-94D4-BD584C7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5426-4277-4AFF-A460-C21ABD00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343C-BB29-46EE-B1F3-9F7BA558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2DF-BA92-487D-BDB9-C5CD205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60A1-F2FE-4F42-9B5B-F7DE2E01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2A94-ECE2-40C5-9B27-5E21FEDB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E0A77-D78E-46CC-8770-1935C4E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35DB-CBDC-4E51-98F5-E592730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6446-83B8-4B87-92C9-FA747900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6BB1F-C69F-439C-81CD-12A25945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541E-F961-4EA6-B0EA-CA0B6E3E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C88F-E2EC-4A49-8F64-EAE8D7C4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CE7DD-1410-4884-84D6-567A4552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C304-508B-4BDB-A383-85A48BF0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184-1E4C-4B1C-B652-611ED31D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0B27-F546-497E-970F-4A62D10D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51F1-EEED-4FA9-85B1-07A74065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D3482-BD1A-4021-91F7-E6F90E68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A116-D4BD-405A-B34B-C33B09AC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6EFA4-E911-413B-8FEE-481B2207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DDEA-C11D-46AD-B419-E010169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0DD96-FE29-466C-AC2D-7B566BD7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9EA5-1DDD-41AE-887A-54A0F384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2ECAE-33A5-4DFD-8EFF-F97B354B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7D3AF-054C-45DF-94A1-FFDB8EA8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121-FBA0-42D7-BB4E-E284C13C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53F1-98FB-4AB4-B1DF-5F5A1D5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5D82-6FC6-4FCC-B5FF-73638D97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62A64-6E3D-4D4B-953C-F1CAD4C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22CA-3BBC-44EE-BBCD-3A5A3C7C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18F23-70E2-4525-B245-AA24AA89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BE1CE-4312-4608-8327-7B542AA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2797F-B1D6-4410-929E-3684780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35F2-94CA-455E-B68A-174DA62F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6894-CAE3-46DF-B6BC-826C0366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7BC96-6ED4-4B99-9946-FBA04F38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97E-970C-42E7-AAF8-68CB6040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3B7DA-2EDA-456F-AD3A-A44786CC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12B3F-D313-401B-A577-7FDE38F9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5A684-ACF6-4CC1-9A18-84D6EBF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1072C-628B-4DDA-A754-7B42D391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DA7C4-84E8-4A65-B9F7-09D5794D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D702B-0174-47C2-AF2B-F7A25E0B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1548-4F08-4718-ACEA-BF212616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CF17-AD49-4C66-AEE8-990C666E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D4950-E8D6-4154-9449-37625F6F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B7E6E-0315-41EF-8189-9781D39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EE5-00AC-4812-B27E-BF5494D7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8E27D-67D2-4B96-B7EE-3F00874D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E3120-79B2-41E9-ADFD-BAD7B410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5E66F-41F4-4252-A980-C96ADACA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53243-96E9-459F-A9F2-E4DA3DF1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52BFC-FB53-494B-81FF-5BBF48DE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1468-4055-4C2F-A7B4-CE3377A2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12BD0-24A7-4152-A2A8-C46B7BCB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04E2-68E6-47D9-9C18-73042033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0016F-0504-4CE4-A646-74D4A3FB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9A56A-348B-4ADC-98DB-681F6AA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58A-0890-452F-A11A-B75773C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A66B-6B05-4C94-AA58-11861F06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45FBA-2BCE-4428-A3E9-A32F2A9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6BD3D-6AD3-4648-BF08-E2135E92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368B0-1227-40CC-9AA4-41C88BFE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2932E-A022-4A47-9F89-EB258007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DD8196-2622-4D76-B314-CEC3749D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9D29F0-4B98-46D0-B034-272EFBAF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2DCF9-61FB-4F8C-95E5-029D8E1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0F515-075E-4678-9004-723970B7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BE7334-0EED-4689-AC6E-CCA5A4D8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E93-587A-490F-B54F-12D24A13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92EEF6-03F4-4092-A525-DB20DFDB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08EF1D-EA76-4B65-AEAE-699E6A8F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D030E-917A-43F6-BE4D-72BEFF57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8274D-F854-4856-BC7F-AB645B7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31E3E-285D-437E-9B8A-D003258C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2F516A-0DD9-43DC-8EB3-9D24E2DE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99B7F8-6C25-4B79-AEC6-A1FEC478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CB9F5B-4E61-4E36-84A5-D13A4A82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690DC-41D4-4B1F-8A69-051A330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EEE25-5A9F-4F68-A165-63F8D37B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FAC6-E5FC-4D82-AC07-76D75887917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1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493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E0DD-CABA-4D47-B2B6-CC01D2FD7BF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0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8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984E-9594-4653-90B4-C279F8FB866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113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Freeform 18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4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26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27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29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30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31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32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34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35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1D35-6962-4177-ABC3-505B185AF1E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1180-639B-4B85-BC5B-A0143255549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8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6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7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8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9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4EAA-FDDA-4689-8D81-FE060AF7508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F403-E724-4615-9937-9C881F4861D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320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Rectangle 18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traight Connector 20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Group 24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25" name="Straight Connector 24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25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Straight Connector 26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28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9" name="Straight Connector 28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Straight Connector 29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Straight Connector 30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2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33" name="Straight Connector 32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33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Straight Connector 34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C58D-0941-4724-AA16-4B00A7355F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387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318B-EFD0-474B-A42C-292AD152B42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4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440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A11D-CBAE-49B6-B4A5-315A7620B3A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27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347760" y="2419200"/>
            <a:ext cx="811980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a process occurring at constant temperature (an isothermal process), the change in entropy is equal to the heat that would be transferred if the process were reversible divided by the temperatur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a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ases completely fill their chamber because it is more random than to leave half emp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olid </a:t>
            </a: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&lt;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liquid </a:t>
            </a: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&lt;&lt;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ga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many more ways for the molecules to be arranged as a liquid than a sol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ases have a huge number of possible arrangem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econd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econd law of thermodynamics states that the entropy of the universe increases for spontaneous processes, and the entropy of the universe does not change for reversible proces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econd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n other words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reversible process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univ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system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surrounding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irreversible process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univ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system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surroundings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&gt; 0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econd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last truths mean that as a result of all spontaneous processes the entropy of the universe increa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on the Molecular Sca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udwig Boltzmann described the concept of entropy on the molecular leve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mperature is a measure of the average kinetic energy of the molecules in a sampl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8" descr="19_07"/>
          <p:cNvPicPr/>
          <p:nvPr/>
        </p:nvPicPr>
        <p:blipFill>
          <a:blip r:embed="rId1"/>
          <a:stretch/>
        </p:blipFill>
        <p:spPr>
          <a:xfrm>
            <a:off x="3438360" y="4114800"/>
            <a:ext cx="22672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on the Molecular Sca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olecules exhibit several types of motion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nslational:  Movement of the entire molecule from one place to anothe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Vibrational:  Periodic motion of atoms within a molecul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otational:  Rotation of the molecule on about an axis or rotation about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bond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2" name="Picture 4" descr="19_06"/>
          <p:cNvPicPr/>
          <p:nvPr/>
        </p:nvPicPr>
        <p:blipFill>
          <a:blip r:embed="rId1"/>
          <a:srcRect l="0" t="0" r="0" b="12536"/>
          <a:stretch/>
        </p:blipFill>
        <p:spPr>
          <a:xfrm>
            <a:off x="157320" y="3962520"/>
            <a:ext cx="88293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on the Molecular Sca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oltzmann envisioned the motions of a sample of molecules at a particular instant in tim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s would be akin to taking a snapshot of all the molecul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e referred to this sampling as a </a:t>
            </a:r>
            <a:r>
              <a:rPr b="0" lang="en-US" sz="2800" spc="-1" strike="noStrike">
                <a:solidFill>
                  <a:srgbClr val="ffff00"/>
                </a:solidFill>
                <a:latin typeface="Corbel"/>
              </a:rPr>
              <a:t>microstate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f the thermodynamic syste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5" name="Picture 4" descr="19_06"/>
          <p:cNvPicPr/>
          <p:nvPr/>
        </p:nvPicPr>
        <p:blipFill>
          <a:blip r:embed="rId1"/>
          <a:srcRect l="0" t="0" r="0" b="12536"/>
          <a:stretch/>
        </p:blipFill>
        <p:spPr>
          <a:xfrm>
            <a:off x="157320" y="3962520"/>
            <a:ext cx="88293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on the Molecular Sca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number of microstates and, therefore, the entropy tends to increase with increases 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mperatur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olum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number of independently moving molecul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and Physical Sta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ntropy increases with the freedom of motion of molecul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efore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&gt;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&gt;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0" name="Picture 5" descr="19_09"/>
          <p:cNvPicPr/>
          <p:nvPr/>
        </p:nvPicPr>
        <p:blipFill>
          <a:blip r:embed="rId1"/>
          <a:srcRect l="0" t="0" r="0" b="4648"/>
          <a:stretch/>
        </p:blipFill>
        <p:spPr>
          <a:xfrm>
            <a:off x="4648320" y="2290680"/>
            <a:ext cx="4343400" cy="296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irst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 will recall from Chapter 5 that energy cannot be created nor destroy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fore, the total energy of the universe is a consta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ergy can, however, be converted from one form to another or transferred from a system to the surroundings or vice vers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u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2" name="Picture 5" descr="19_10"/>
          <p:cNvPicPr/>
          <p:nvPr/>
        </p:nvPicPr>
        <p:blipFill>
          <a:blip r:embed="rId1"/>
          <a:srcRect l="0" t="0" r="0" b="3465"/>
          <a:stretch/>
        </p:blipFill>
        <p:spPr>
          <a:xfrm>
            <a:off x="152280" y="2332080"/>
            <a:ext cx="4419720" cy="28494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3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Generally, when a solid is dissolved in a solvent, entropy increas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Chang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general, entropy increases wh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ases are formed from liquids and solids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iquids or solutions are formed from solids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number of gas molecules increases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number of moles increas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6" name="Picture 8" descr="19_11"/>
          <p:cNvPicPr/>
          <p:nvPr/>
        </p:nvPicPr>
        <p:blipFill>
          <a:blip r:embed="rId1"/>
          <a:srcRect l="0" t="0" r="0" b="3474"/>
          <a:stretch/>
        </p:blipFill>
        <p:spPr>
          <a:xfrm>
            <a:off x="4648320" y="1886040"/>
            <a:ext cx="4267080" cy="375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ird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8" name="Picture 8" descr="19_13"/>
          <p:cNvPicPr/>
          <p:nvPr/>
        </p:nvPicPr>
        <p:blipFill>
          <a:blip r:embed="rId1"/>
          <a:stretch/>
        </p:blipFill>
        <p:spPr>
          <a:xfrm>
            <a:off x="685800" y="3073320"/>
            <a:ext cx="3809880" cy="193032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entropy of a pure crystalline substance at absolute zero is 0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andard Entrop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olar entropy values of substances in their standard stat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4520" indent="-344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entropies tend to increase with increasing molar mas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2" name="Picture 8" descr="19_T02"/>
          <p:cNvPicPr/>
          <p:nvPr/>
        </p:nvPicPr>
        <p:blipFill>
          <a:blip r:embed="rId1"/>
          <a:srcRect l="0" t="12331" r="11928" b="4110"/>
          <a:stretch/>
        </p:blipFill>
        <p:spPr>
          <a:xfrm>
            <a:off x="5181480" y="1523880"/>
            <a:ext cx="25909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andard Entrop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rger and more complex molecules have greater entropi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5" name="Picture 5" descr="19_15"/>
          <p:cNvPicPr/>
          <p:nvPr/>
        </p:nvPicPr>
        <p:blipFill>
          <a:blip r:embed="rId1"/>
          <a:stretch/>
        </p:blipFill>
        <p:spPr>
          <a:xfrm>
            <a:off x="1389240" y="4114800"/>
            <a:ext cx="63655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Chang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71360" y="1752120"/>
            <a:ext cx="8801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tropy changes for a reaction can be estimated in a manner analogous to that by which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estimate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(products)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—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>
                <a:solidFill>
                  <a:srgbClr val="ffffff"/>
                </a:solidFill>
                <a:latin typeface="Corbe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(reactants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m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re the coefficients in the balanced chemical equ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ibb's Free Energ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66320" y="12189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=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-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 at constant temperatu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ivide by -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/T = 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/T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/T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surr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/T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univ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is negative at constant T and P, the process is spontaneou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et’s Chec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r the reaction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(s)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(l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º = 22.1 J/K mol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º =6030 J/m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lculate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at 10ºC and -10º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ok at the equation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=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-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ontaneity can be predicted from the sign of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 and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G=</a:t>
            </a:r>
            <a:r>
              <a:rPr b="0" lang="en-US" sz="3600" spc="-1" strike="noStrike">
                <a:solidFill>
                  <a:srgbClr val="c1ee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H-T</a:t>
            </a:r>
            <a:r>
              <a:rPr b="0" lang="en-US" sz="3600" spc="-1" strike="noStrike">
                <a:solidFill>
                  <a:srgbClr val="c1ee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643" name="Group 6"/>
          <p:cNvGrpSpPr/>
          <p:nvPr/>
        </p:nvGrpSpPr>
        <p:grpSpPr>
          <a:xfrm>
            <a:off x="1127160" y="1149480"/>
            <a:ext cx="5852160" cy="606960"/>
            <a:chOff x="1127160" y="1149480"/>
            <a:chExt cx="5852160" cy="606960"/>
          </a:xfrm>
        </p:grpSpPr>
        <p:sp>
          <p:nvSpPr>
            <p:cNvPr id="644" name="Rectangle 3"/>
            <p:cNvSpPr/>
            <p:nvPr/>
          </p:nvSpPr>
          <p:spPr>
            <a:xfrm>
              <a:off x="2498760" y="1225440"/>
              <a:ext cx="7275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4"/>
            <p:cNvSpPr/>
            <p:nvPr/>
          </p:nvSpPr>
          <p:spPr>
            <a:xfrm>
              <a:off x="1127160" y="1225440"/>
              <a:ext cx="70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5"/>
            <p:cNvSpPr/>
            <p:nvPr/>
          </p:nvSpPr>
          <p:spPr>
            <a:xfrm>
              <a:off x="4176000" y="1149480"/>
              <a:ext cx="28033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pontaneous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Rectangle 7"/>
          <p:cNvSpPr/>
          <p:nvPr/>
        </p:nvSpPr>
        <p:spPr>
          <a:xfrm>
            <a:off x="1279440" y="171144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2727000" y="171144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9"/>
          <p:cNvSpPr/>
          <p:nvPr/>
        </p:nvSpPr>
        <p:spPr>
          <a:xfrm>
            <a:off x="4100040" y="1835280"/>
            <a:ext cx="37285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ll Temper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10"/>
          <p:cNvSpPr/>
          <p:nvPr/>
        </p:nvSpPr>
        <p:spPr>
          <a:xfrm>
            <a:off x="1279440" y="26892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11"/>
          <p:cNvSpPr/>
          <p:nvPr/>
        </p:nvSpPr>
        <p:spPr>
          <a:xfrm>
            <a:off x="2651040" y="26892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2"/>
          <p:cNvSpPr/>
          <p:nvPr/>
        </p:nvSpPr>
        <p:spPr>
          <a:xfrm>
            <a:off x="3948120" y="2521080"/>
            <a:ext cx="417960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tempera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drive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3"/>
          <p:cNvSpPr/>
          <p:nvPr/>
        </p:nvSpPr>
        <p:spPr>
          <a:xfrm>
            <a:off x="1279080" y="398448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14"/>
          <p:cNvSpPr/>
          <p:nvPr/>
        </p:nvSpPr>
        <p:spPr>
          <a:xfrm>
            <a:off x="2650680" y="398448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5"/>
          <p:cNvSpPr/>
          <p:nvPr/>
        </p:nvSpPr>
        <p:spPr>
          <a:xfrm>
            <a:off x="3871080" y="3816360"/>
            <a:ext cx="402264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ow tempera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drive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6"/>
          <p:cNvSpPr/>
          <p:nvPr/>
        </p:nvSpPr>
        <p:spPr>
          <a:xfrm>
            <a:off x="2651040" y="52038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1279080" y="520380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8"/>
          <p:cNvSpPr/>
          <p:nvPr/>
        </p:nvSpPr>
        <p:spPr>
          <a:xfrm>
            <a:off x="3870360" y="5035680"/>
            <a:ext cx="4545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t any temperatu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is spont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9"/>
          <p:cNvSpPr/>
          <p:nvPr/>
        </p:nvSpPr>
        <p:spPr>
          <a:xfrm>
            <a:off x="609480" y="1676520"/>
            <a:ext cx="7925040" cy="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20"/>
          <p:cNvSpPr/>
          <p:nvPr/>
        </p:nvSpPr>
        <p:spPr>
          <a:xfrm>
            <a:off x="609480" y="3657600"/>
            <a:ext cx="7925040" cy="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21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22"/>
          <p:cNvSpPr/>
          <p:nvPr/>
        </p:nvSpPr>
        <p:spPr>
          <a:xfrm>
            <a:off x="609480" y="2362320"/>
            <a:ext cx="7925040" cy="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23"/>
          <p:cNvSpPr/>
          <p:nvPr/>
        </p:nvSpPr>
        <p:spPr>
          <a:xfrm>
            <a:off x="2286000" y="1219320"/>
            <a:ext cx="0" cy="525780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24"/>
          <p:cNvSpPr/>
          <p:nvPr/>
        </p:nvSpPr>
        <p:spPr>
          <a:xfrm>
            <a:off x="3657600" y="1143000"/>
            <a:ext cx="0" cy="525780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ibbs Free Energ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6" name="Picture 8" descr="19_18"/>
          <p:cNvPicPr/>
          <p:nvPr/>
        </p:nvPicPr>
        <p:blipFill>
          <a:blip r:embed="rId1"/>
          <a:srcRect l="0" t="0" r="0" b="2763"/>
          <a:stretch/>
        </p:blipFill>
        <p:spPr>
          <a:xfrm>
            <a:off x="0" y="2819520"/>
            <a:ext cx="4572000" cy="3951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9076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is negative, the forward reaction is spontaneou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is 0, the system is at equilibriu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is positive, the reaction is spontaneous in the reverse direc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pontaneous Proces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pontaneous processes are those that can proceed without any outside interven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gas in vessel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pontaneously effuse into vessel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, but once the gas is in both vessels, it will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spontaneously return to vessel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8" name="Picture 5" descr="19_01"/>
          <p:cNvPicPr/>
          <p:nvPr/>
        </p:nvPicPr>
        <p:blipFill>
          <a:blip r:embed="rId1"/>
          <a:srcRect l="0" t="0" r="0" b="11099"/>
          <a:stretch/>
        </p:blipFill>
        <p:spPr>
          <a:xfrm>
            <a:off x="5181480" y="1676520"/>
            <a:ext cx="2970360" cy="456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in Rea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 = standard free energy chang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ee energy change that will occur if reactants in their standard state turn to products in their standard st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n’t be measured directly, can be calculated from other measurem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=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º-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º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Hess’s Law with known reactio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andard Free Energy Chang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alogous to standard enthalpies of formation are standard free energies of formation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f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672" name="Group 8"/>
          <p:cNvGrpSpPr/>
          <p:nvPr/>
        </p:nvGrpSpPr>
        <p:grpSpPr>
          <a:xfrm>
            <a:off x="854280" y="4059360"/>
            <a:ext cx="7715880" cy="831240"/>
            <a:chOff x="854280" y="4059360"/>
            <a:chExt cx="7715880" cy="831240"/>
          </a:xfrm>
        </p:grpSpPr>
        <p:sp>
          <p:nvSpPr>
            <p:cNvPr id="673" name="Rectangle 5"/>
            <p:cNvSpPr/>
            <p:nvPr/>
          </p:nvSpPr>
          <p:spPr>
            <a:xfrm>
              <a:off x="854280" y="4059360"/>
              <a:ext cx="77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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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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(products)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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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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(reactants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6"/>
            <p:cNvSpPr/>
            <p:nvPr/>
          </p:nvSpPr>
          <p:spPr>
            <a:xfrm>
              <a:off x="3105360" y="4241880"/>
              <a:ext cx="246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baseline="-25000">
                  <a:solidFill>
                    <a:srgbClr val="ffff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7"/>
            <p:cNvSpPr/>
            <p:nvPr/>
          </p:nvSpPr>
          <p:spPr>
            <a:xfrm>
              <a:off x="6580800" y="4241880"/>
              <a:ext cx="377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  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Rectangle 9"/>
          <p:cNvSpPr/>
          <p:nvPr/>
        </p:nvSpPr>
        <p:spPr>
          <a:xfrm>
            <a:off x="685800" y="501984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re the stoichiometric coeffic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in Rea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tables of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ducts-reactants agai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tandard free energy of formation for any element in its standard state is 0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member- Spontaneity tells us nothing about r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Chang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t temperatures other than 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Arial"/>
              </a:rPr>
              <a:t>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Arial"/>
              </a:rPr>
              <a:t>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doe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hange with temperatur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Temperat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two parts to the free energy equ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— the enthalpy t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T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— the entropy t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temperature dependence of free energy, then comes from the entropy ter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Temperat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84" name="Picture 7" descr="19_T04"/>
          <p:cNvPicPr/>
          <p:nvPr/>
        </p:nvPicPr>
        <p:blipFill>
          <a:blip r:embed="rId1"/>
          <a:srcRect l="0" t="0" r="0" b="12043"/>
          <a:stretch/>
        </p:blipFill>
        <p:spPr>
          <a:xfrm>
            <a:off x="343080" y="2057400"/>
            <a:ext cx="8458200" cy="21337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8"/>
          <p:cNvSpPr/>
          <p:nvPr/>
        </p:nvSpPr>
        <p:spPr>
          <a:xfrm>
            <a:off x="403200" y="2166840"/>
            <a:ext cx="990720" cy="152640"/>
          </a:xfrm>
          <a:prstGeom prst="rect">
            <a:avLst/>
          </a:prstGeom>
          <a:solidFill>
            <a:srgbClr val="007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Equilibriu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der any conditions, standard or nonstandard, the free energy change can be found this way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RT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n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Q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(Under standard conditions, all concentrations are 1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so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= 1 and ln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= 0; the last term drops out.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Press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 +RTln(Q) where Q is the reaction quotients (P of the products /P of the reactants all raised to their coefficient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(g)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(g)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H(l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ould the reaction be spontaneous at 25ºC with the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essure of 5.0 atm and the CO pressure of 3.0 at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H(l) = -166 kJ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O(g) = -137 kJ    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(g) = 0 kJ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Equilibriu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t equilibrium,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Q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K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and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0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quation becom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R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ln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arranging, this becom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R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ln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r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K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692" name="Group 6"/>
          <p:cNvGrpSpPr/>
          <p:nvPr/>
        </p:nvGrpSpPr>
        <p:grpSpPr>
          <a:xfrm>
            <a:off x="4437000" y="4648320"/>
            <a:ext cx="634680" cy="642600"/>
            <a:chOff x="4437000" y="4648320"/>
            <a:chExt cx="634680" cy="642600"/>
          </a:xfrm>
        </p:grpSpPr>
        <p:sp>
          <p:nvSpPr>
            <p:cNvPr id="693" name="Text Box 4"/>
            <p:cNvSpPr/>
            <p:nvPr/>
          </p:nvSpPr>
          <p:spPr>
            <a:xfrm>
              <a:off x="4437000" y="4648320"/>
              <a:ext cx="63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>
              <a:off x="4455360" y="4965840"/>
              <a:ext cx="60192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far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tells us spontaneity at current conditions. When will it stop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will go to the lowest possible free energy which may be an equilibriu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t equilibrium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= 0, Q = 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 = -RTln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pontaneous Proces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50" name="Picture 5" descr="19_02"/>
          <p:cNvPicPr/>
          <p:nvPr/>
        </p:nvPicPr>
        <p:blipFill>
          <a:blip r:embed="rId1"/>
          <a:srcRect l="0" t="0" r="0" b="4082"/>
          <a:stretch/>
        </p:blipFill>
        <p:spPr>
          <a:xfrm>
            <a:off x="838080" y="1219320"/>
            <a:ext cx="2741760" cy="52578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38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ocesses that are spontaneous in one direction are nonspontaneous in the reverse direction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ffff"/>
                </a:solidFill>
                <a:latin typeface="Consolas"/>
              </a:rPr>
              <a:t>G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onsolas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Consolas"/>
              </a:rPr>
              <a:t>         K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pontaneous Proces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cesses that are spontaneous at one temperature may be nonspontaneous at other temperatur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bove 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 it is spontaneous for ice to mel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elow 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 the reverse process is spontaneou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4" name="Picture 5" descr="19_03"/>
          <p:cNvPicPr/>
          <p:nvPr/>
        </p:nvPicPr>
        <p:blipFill>
          <a:blip r:embed="rId1"/>
          <a:stretch/>
        </p:blipFill>
        <p:spPr>
          <a:xfrm>
            <a:off x="2333520" y="4114800"/>
            <a:ext cx="447696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Entropy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(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) is a term coined by Rudolph Clausius in the 19th centur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ausius was convinced of the significance of the ratio of heat delivered and the temperature at which it is delivered,     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3689280" y="4343400"/>
            <a:ext cx="457200" cy="1068840"/>
            <a:chOff x="3689280" y="4343400"/>
            <a:chExt cx="457200" cy="1068840"/>
          </a:xfrm>
        </p:grpSpPr>
        <p:sp>
          <p:nvSpPr>
            <p:cNvPr id="558" name="Rectangle 4"/>
            <p:cNvSpPr/>
            <p:nvPr/>
          </p:nvSpPr>
          <p:spPr>
            <a:xfrm>
              <a:off x="3706200" y="4343400"/>
              <a:ext cx="429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>
              <a:off x="3689280" y="4914720"/>
              <a:ext cx="4572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tropy can be thought of as a measure of the randomness of a sys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is related to the various modes of motion in molecul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7"/>
          <p:cNvGrpSpPr/>
          <p:nvPr/>
        </p:nvGrpSpPr>
        <p:grpSpPr>
          <a:xfrm>
            <a:off x="5181480" y="3657600"/>
            <a:ext cx="2743200" cy="1066680"/>
            <a:chOff x="5181480" y="3657600"/>
            <a:chExt cx="2743200" cy="1066680"/>
          </a:xfrm>
        </p:grpSpPr>
        <p:sp>
          <p:nvSpPr>
            <p:cNvPr id="563" name="Oval 2"/>
            <p:cNvSpPr/>
            <p:nvPr/>
          </p:nvSpPr>
          <p:spPr>
            <a:xfrm>
              <a:off x="5181480" y="36576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"/>
            <p:cNvSpPr/>
            <p:nvPr/>
          </p:nvSpPr>
          <p:spPr>
            <a:xfrm>
              <a:off x="6172200" y="41148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6324480" y="3657600"/>
              <a:ext cx="1600200" cy="1066680"/>
              <a:chOff x="6324480" y="3657600"/>
              <a:chExt cx="1600200" cy="1066680"/>
            </a:xfrm>
          </p:grpSpPr>
          <p:sp>
            <p:nvSpPr>
              <p:cNvPr id="566" name="Oval 4"/>
              <p:cNvSpPr/>
              <p:nvPr/>
            </p:nvSpPr>
            <p:spPr>
              <a:xfrm>
                <a:off x="6858000" y="36576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5"/>
              <p:cNvSpPr/>
              <p:nvPr/>
            </p:nvSpPr>
            <p:spPr>
              <a:xfrm>
                <a:off x="6324480" y="41148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Rectangle 8"/>
          <p:cNvSpPr/>
          <p:nvPr/>
        </p:nvSpPr>
        <p:spPr>
          <a:xfrm>
            <a:off x="624852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640080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10"/>
          <p:cNvSpPr/>
          <p:nvPr/>
        </p:nvSpPr>
        <p:spPr>
          <a:xfrm>
            <a:off x="525780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11"/>
          <p:cNvSpPr/>
          <p:nvPr/>
        </p:nvSpPr>
        <p:spPr>
          <a:xfrm>
            <a:off x="693432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12"/>
          <p:cNvSpPr/>
          <p:nvPr/>
        </p:nvSpPr>
        <p:spPr>
          <a:xfrm>
            <a:off x="5715000" y="5334120"/>
            <a:ext cx="228600" cy="228600"/>
          </a:xfrm>
          <a:prstGeom prst="ellipse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Oval 13"/>
          <p:cNvSpPr/>
          <p:nvPr/>
        </p:nvSpPr>
        <p:spPr>
          <a:xfrm>
            <a:off x="5562720" y="5029200"/>
            <a:ext cx="228600" cy="228600"/>
          </a:xfrm>
          <a:prstGeom prst="ellipse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Group 19"/>
          <p:cNvGrpSpPr/>
          <p:nvPr/>
        </p:nvGrpSpPr>
        <p:grpSpPr>
          <a:xfrm>
            <a:off x="5029200" y="609480"/>
            <a:ext cx="2743200" cy="1067040"/>
            <a:chOff x="5029200" y="609480"/>
            <a:chExt cx="2743200" cy="1067040"/>
          </a:xfrm>
        </p:grpSpPr>
        <p:sp>
          <p:nvSpPr>
            <p:cNvPr id="575" name="Oval 14"/>
            <p:cNvSpPr/>
            <p:nvPr/>
          </p:nvSpPr>
          <p:spPr>
            <a:xfrm>
              <a:off x="5029200" y="60948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Rectangle 15"/>
            <p:cNvSpPr/>
            <p:nvPr/>
          </p:nvSpPr>
          <p:spPr>
            <a:xfrm>
              <a:off x="6019920" y="106668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Group 18"/>
            <p:cNvGrpSpPr/>
            <p:nvPr/>
          </p:nvGrpSpPr>
          <p:grpSpPr>
            <a:xfrm>
              <a:off x="6172200" y="609480"/>
              <a:ext cx="1600200" cy="1067040"/>
              <a:chOff x="6172200" y="609480"/>
              <a:chExt cx="1600200" cy="1067040"/>
            </a:xfrm>
          </p:grpSpPr>
          <p:sp>
            <p:nvSpPr>
              <p:cNvPr id="578" name="Oval 16"/>
              <p:cNvSpPr/>
              <p:nvPr/>
            </p:nvSpPr>
            <p:spPr>
              <a:xfrm>
                <a:off x="6705720" y="609480"/>
                <a:ext cx="1066680" cy="10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17"/>
              <p:cNvSpPr/>
              <p:nvPr/>
            </p:nvSpPr>
            <p:spPr>
              <a:xfrm>
                <a:off x="6172200" y="1066680"/>
                <a:ext cx="6094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5"/>
          <p:cNvGrpSpPr/>
          <p:nvPr/>
        </p:nvGrpSpPr>
        <p:grpSpPr>
          <a:xfrm>
            <a:off x="5181480" y="2057400"/>
            <a:ext cx="2743200" cy="1066680"/>
            <a:chOff x="5181480" y="2057400"/>
            <a:chExt cx="2743200" cy="1066680"/>
          </a:xfrm>
        </p:grpSpPr>
        <p:sp>
          <p:nvSpPr>
            <p:cNvPr id="581" name="Oval 20"/>
            <p:cNvSpPr/>
            <p:nvPr/>
          </p:nvSpPr>
          <p:spPr>
            <a:xfrm>
              <a:off x="5181480" y="20574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Rectangle 21"/>
            <p:cNvSpPr/>
            <p:nvPr/>
          </p:nvSpPr>
          <p:spPr>
            <a:xfrm>
              <a:off x="6172200" y="25146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3" name="Group 24"/>
            <p:cNvGrpSpPr/>
            <p:nvPr/>
          </p:nvGrpSpPr>
          <p:grpSpPr>
            <a:xfrm>
              <a:off x="6324480" y="2057400"/>
              <a:ext cx="1600200" cy="1066680"/>
              <a:chOff x="6324480" y="2057400"/>
              <a:chExt cx="1600200" cy="1066680"/>
            </a:xfrm>
          </p:grpSpPr>
          <p:sp>
            <p:nvSpPr>
              <p:cNvPr id="584" name="Oval 22"/>
              <p:cNvSpPr/>
              <p:nvPr/>
            </p:nvSpPr>
            <p:spPr>
              <a:xfrm>
                <a:off x="6858000" y="20574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23"/>
              <p:cNvSpPr/>
              <p:nvPr/>
            </p:nvSpPr>
            <p:spPr>
              <a:xfrm>
                <a:off x="6324480" y="25146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Oval 26"/>
          <p:cNvSpPr/>
          <p:nvPr/>
        </p:nvSpPr>
        <p:spPr>
          <a:xfrm>
            <a:off x="5568840" y="3816360"/>
            <a:ext cx="216000" cy="216000"/>
          </a:xfrm>
          <a:prstGeom prst="ellipse">
            <a:avLst/>
          </a:prstGeom>
          <a:solidFill>
            <a:srgbClr val="d6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7"/>
          <p:cNvSpPr/>
          <p:nvPr/>
        </p:nvSpPr>
        <p:spPr>
          <a:xfrm>
            <a:off x="990720" y="1371600"/>
            <a:ext cx="3504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ossible arran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% chance of finding the left emp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% chance of them being evenly dispe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8"/>
          <p:cNvSpPr/>
          <p:nvPr/>
        </p:nvSpPr>
        <p:spPr>
          <a:xfrm>
            <a:off x="7321680" y="3816360"/>
            <a:ext cx="215640" cy="216000"/>
          </a:xfrm>
          <a:prstGeom prst="ellipse">
            <a:avLst/>
          </a:prstGeom>
          <a:solidFill>
            <a:srgbClr val="ea15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9"/>
          <p:cNvSpPr/>
          <p:nvPr/>
        </p:nvSpPr>
        <p:spPr>
          <a:xfrm>
            <a:off x="6940440" y="920880"/>
            <a:ext cx="216000" cy="215640"/>
          </a:xfrm>
          <a:prstGeom prst="ellipse">
            <a:avLst/>
          </a:prstGeom>
          <a:solidFill>
            <a:srgbClr val="d6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30"/>
          <p:cNvSpPr/>
          <p:nvPr/>
        </p:nvSpPr>
        <p:spPr>
          <a:xfrm>
            <a:off x="7397640" y="996840"/>
            <a:ext cx="216000" cy="216000"/>
          </a:xfrm>
          <a:prstGeom prst="ellipse">
            <a:avLst/>
          </a:prstGeom>
          <a:solidFill>
            <a:srgbClr val="ea15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31"/>
          <p:cNvSpPr/>
          <p:nvPr/>
        </p:nvSpPr>
        <p:spPr>
          <a:xfrm>
            <a:off x="7321680" y="2444760"/>
            <a:ext cx="215640" cy="216000"/>
          </a:xfrm>
          <a:prstGeom prst="ellipse">
            <a:avLst/>
          </a:prstGeom>
          <a:solidFill>
            <a:srgbClr val="d6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32"/>
          <p:cNvSpPr/>
          <p:nvPr/>
        </p:nvSpPr>
        <p:spPr>
          <a:xfrm>
            <a:off x="5416560" y="2444760"/>
            <a:ext cx="216000" cy="216000"/>
          </a:xfrm>
          <a:prstGeom prst="ellipse">
            <a:avLst/>
          </a:prstGeom>
          <a:solidFill>
            <a:srgbClr val="ea15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26"/>
          <p:cNvSpPr/>
          <p:nvPr/>
        </p:nvSpPr>
        <p:spPr>
          <a:xfrm>
            <a:off x="5562720" y="5029200"/>
            <a:ext cx="215640" cy="216000"/>
          </a:xfrm>
          <a:prstGeom prst="ellipse">
            <a:avLst/>
          </a:prstGeom>
          <a:solidFill>
            <a:srgbClr val="d6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8"/>
          <p:cNvSpPr/>
          <p:nvPr/>
        </p:nvSpPr>
        <p:spPr>
          <a:xfrm>
            <a:off x="5715000" y="5334120"/>
            <a:ext cx="216000" cy="215640"/>
          </a:xfrm>
          <a:prstGeom prst="ellipse">
            <a:avLst/>
          </a:prstGeom>
          <a:solidFill>
            <a:srgbClr val="ea15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ke total energy,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and enthalpy,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entropy is a state func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fore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final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initi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22:18:05Z</dcterms:created>
  <dc:creator>John Bookstaver</dc:creator>
  <dc:description/>
  <dc:language>en-US</dc:language>
  <cp:lastModifiedBy>Windows User</cp:lastModifiedBy>
  <dcterms:modified xsi:type="dcterms:W3CDTF">2011-01-31T17:50:05Z</dcterms:modified>
  <cp:revision>61</cp:revision>
  <dc:subject/>
  <dc:title>Chapter 19 Chemical Thermodynamics</dc:title>
</cp:coreProperties>
</file>